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BEAA-9429-4DA5-A5A1-C16582D1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45F4-F39E-4862-B034-229B4F9E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8DAD-0A59-4814-BB0F-483BFBD0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7D00-4B64-4936-AC5A-F2045893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316B-97A7-4509-BBCF-006B44B8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66DE-FCB5-4DD8-95DD-16292714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29C6-156E-4280-A2CA-7D6D9EF4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27B3-C275-4EDA-98E8-5C2B5537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4531-9A27-4514-A2CE-60A3C43C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CBCD-F301-4F2B-8F0B-76213A2E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BF90-1340-4C0D-9033-B663FF54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6641-0CB6-40F1-9019-B511D57E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FEBE-4C7D-4CEC-AA54-B6B797BE5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y Mor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/1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issu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“thymocyte” to replace imm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definitions more precise. DN1 thymocyte  - CD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4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the concept of naïve versus antigen experienced T cell - instead of “mat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dditional T helper subsets - introduce transcription factors as part of the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1360" y="581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3840" y="1447920"/>
            <a:ext cx="8633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 T cell (E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ymocyte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mature T cell located in the thym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1 thymocy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4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2 thymocy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4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3 thymocyte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4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l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e TC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4 thymocyte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4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 TC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 thymocy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C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l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ergoing positive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 thymocy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C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h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ergoing negative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 thymocy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C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hi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 thymocy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C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KT cel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K1.1 (CD56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1 restric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Treg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C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hi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xP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pheral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0" y="1828800"/>
            <a:ext cx="904716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ïve T c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CR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62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ot exposed to antigen; blood and lymphoid or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CR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62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L-7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ot exposed to antigen; blood and lymphoid or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xP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62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ot exposed to antigen; blood and lymphoid organs (nTreg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or T cel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CR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62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igen experienced; blood &amp; peripheral tissues (help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CR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62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-7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igen experienced; blood &amp; peripheral t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ytotoxic perforin and granzyme posi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T cell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or Memory T ce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CR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62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-7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g experienced; blood &amp; periph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CR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62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-7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 experienced; blood &amp; periph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ヒラギノ角ゴ ProN W3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al Memory T ce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CR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62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-7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g experienced; blood &amp; lymphoid or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CR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62+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-7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 experienced; blood &amp; lymphoid or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Effector T cells (help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2680" y="1523880"/>
            <a:ext cx="730548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helper 1 (Th1)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-be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duce IFN-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llular immunity to intracellular pathogens; 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helper 2 (Th2)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ATA-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duce IL-4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moral immunity; immunity to extracellular para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helper 17 (Th17)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OR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 produce IL-17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llular immunity; immunity to extracellular bac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reg 1 (Tr1)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duce IL-10; (no signature T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ibit immune respo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ed Treg (iTreg)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xP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duce TGF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IL-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ibit immune respo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effector T cells (cytotoxi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4320" y="1981080"/>
            <a:ext cx="8230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totoxic T cells (CTL)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fori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anzyme 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ll infected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1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-be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me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duce IFN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ill infected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2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ヒラギノ角ゴ ProN W3"/>
              </a:rPr>
              <a:t>GATA-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ヒラギノ角ゴ ProN W3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duce IL-4. IL-13; less cytotox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17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en-US" sz="1800" spc="-1" strike="noStrike">
                <a:solidFill>
                  <a:srgbClr val="000000"/>
                </a:solidFill>
                <a:latin typeface="ヒラギノ角ゴ ProN W3"/>
              </a:rPr>
              <a:t>ROR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ヒラギノ角ゴ ProN W3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duce IL-17; ?cytotox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g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xP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ppress immune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3:14:05Z</dcterms:created>
  <dc:creator>Penelope Morel</dc:creator>
  <dc:description/>
  <dc:language>en-US</dc:language>
  <cp:lastModifiedBy>Penelope Morel</cp:lastModifiedBy>
  <dcterms:modified xsi:type="dcterms:W3CDTF">2008-05-13T12:28:47Z</dcterms:modified>
  <cp:revision>5</cp:revision>
  <dc:subject/>
  <dc:title>T cell ontology</dc:title>
</cp:coreProperties>
</file>